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94E-E9A1-43DE-9C3A-77FB25AA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01A-5A93-451A-8229-E86D793D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61DFB-08B0-4A9B-90F0-D66C282B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0906-727F-401B-A3DB-2CDC5259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995B1-8659-446C-BC0C-61E03E92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9DB48-067F-4006-A836-5A7C0B3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3CC6-DA53-4F95-BBF2-8C4CB48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4FEF1-D269-48E7-B965-33254AE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AD91-6794-489F-B115-27D197CB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8528-8CA7-4694-953C-FA86AC23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D61E1-9FEC-4823-8FE1-883392F4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EAD3F-2ECE-4075-BBE0-8B1BD7B0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986-5077-4AF3-89B7-D781476B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30B7A-455C-41A4-A383-16D16CD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74BDB-0BFE-4867-9862-6F73A5C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ACE4F-0D3C-41E2-A757-D978E69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9879A-1E17-4A1B-893C-E3E02B72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D4A9F-6FF1-40AD-BF76-289CA32F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AD91D-2B45-4A1C-A8A8-10CC6B59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BFAF7-162B-42FF-99ED-AF5439C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B26AF-4CFF-4D9D-A321-182B081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60CFB-7DBE-44F6-AF98-B85EB7C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12B9C-735B-4E5C-B984-6C4A8B69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89B-59C7-404A-B4D3-33E52BE6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588A3-AD70-4E29-9324-A4781FE6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9F020-EC11-4693-95C3-E7EA2B07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1FADE-D41F-419B-A549-420637E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8DE2A-7BBE-4467-AE16-5044145B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10F61-A966-4C2E-A88A-6B8EA991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DCDCA-576F-4260-A018-266413E4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BF49F-B7D2-4401-B67E-A4E77E05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01B26-DDD8-4F5D-8A8C-950848C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364E9-2A08-436B-8B31-E1ABE9A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7C2D-6C4C-4E6A-81C0-62F1558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93C7-33C4-4086-A320-7BE0C06C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44269-8018-4BC7-BA1A-A0D633D3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6975B-FA02-43A1-BF36-D164E212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1E77-5518-4220-9DC2-EC72052E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2009F-8B97-4692-9C78-D2A07D43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F6128-0EA2-466F-867B-ADE82159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93C69-4184-4125-AA42-3636BAD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79F38-1491-4776-9DBC-E28B819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170AD-25A1-4CBD-BB5A-AAF37CC1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68D66-0CF8-49DC-AD6B-4F037E48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B6CFB-B77C-4B38-B35F-0D55959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4B59-8422-414C-B526-55CA17A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AD3E5-CBA2-45D9-80BC-F42AB0D8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501EE-C0F9-417F-A7C1-5154D5D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938D0-F47D-42F0-BB26-44920B6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39831-BF65-4C15-9C67-1F5C1346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6928D-8BDB-4755-8FBF-4A42F113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E08BB-EE19-4B3A-8162-F04DC426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D5FCD-490B-42F9-80E6-7D195987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47412-EEB5-4AB4-B034-897F643B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8C50E-A172-492D-AB5E-909A2DB9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EC7F6-A96F-44B5-9254-9C971D72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9E9E-0E4D-4278-972D-BDAEEA19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820B0-7EF0-4C82-82ED-E30D9BC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F24F2-7D9A-480E-88A8-247196F4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62EFD-9246-43B7-B952-8167E40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6644A-7BF4-45BB-A095-DAF7C8A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87A17-222B-482A-88E4-E46C21E3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1DC33-7E9C-470C-8DBA-0FC9A7CB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B4E48-4331-4B93-9A96-A11FD5E3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AF1DA-296C-418F-B359-A1663674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444CB-4A87-4C34-B264-4CEE618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C4C0B-C60A-4CB6-9E1A-94795078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AAA7-B500-4005-ACFC-F250E0D8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F2A34-86A5-4996-97D4-7DF7714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8ECF8-4EC5-43B0-BABC-77A10108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64BB2-38E9-431A-86ED-CF4F4CDA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B9606-F433-4CA8-B606-09DC684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C1F0D-5A57-4193-8F7D-BDBB210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103ED-0DBC-4580-8D06-72C722B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445B5-FDE8-448C-8E9F-8726042D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84B1B-3BC2-4ABC-AA91-1BE0DB3F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19B14-E58B-425D-BECE-9843B1D1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85D90-C4A1-4874-85D8-EF151974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706E-F07B-4E50-866E-B639C0A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95235-1A56-40D2-A53D-292BBAB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583CC-D60E-458E-A9C3-0A2D1ADD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B0B69-CD55-4695-8F59-E85AAD9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6F648-BEA2-4192-ACC1-5DD9FAD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B631B-100F-41A5-80C7-7DE396FC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B0C65-41A4-4BDF-A4FC-C9DA170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54FE0-059C-4870-95EC-0294F15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D3AFB-E843-4582-9C4D-0032FD7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1AE02-8ED7-40D1-8504-576EE15B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335FA-A0F0-48A0-8D0E-9C4D4CD6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534-399A-4282-AB07-84EBC2C0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F7927-CE57-4056-AC9D-41B29D29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FBB20-F568-4CE8-8BA0-DF2649B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D8017-C30D-477F-A876-36AE3BBF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B3655-6A6B-4FB6-8637-1BD3735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40AFC-9A1A-4B9F-9D9F-E9994DCB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3E4C6-597B-43C3-B5A6-9B5911F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BE38C-651F-4669-BA49-D279C699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6DAA6-72E7-4E17-AD65-6B4B6B2C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C14BF-C008-4BD5-91AE-0E30798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11D57-61F6-4915-A180-F6431FF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9F0D-ABDB-43C6-A675-83C6537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77024-58DE-40B7-A1A1-6B303960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E72D2-0FBC-4F4F-9D3B-4996AE0D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DD93A-EC15-4034-87B8-F1660CFB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98DED-B026-4AE2-89AF-FE8EBCA7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CC99F-1D38-4EFC-96EF-E586F36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BAD45-A8A4-4CF0-BADF-DD69401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0A1A1-DEC5-49C1-8A6C-E0F49C5C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6C436-F6EA-4685-BB0A-F7BF322A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6E7B1-07FB-4BAD-986E-6DDA7102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E2C05-37E0-4C44-980D-EAA501F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859-FF68-47A4-AC6F-25CD2C79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3A6F-1A75-40F8-861B-52167399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858D5-DF90-4B33-895C-6F4E10C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BEA29-F3AF-4091-BAE7-2B1A88F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BA96F-DB1B-4909-B198-89D8425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4D019-27C9-4F07-A181-B479836B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F3E2C-F05D-4040-8B31-B0764AC8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263D3-6DDA-473D-88AA-1717AD9B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ECB88-2E15-4530-88CE-EF2BCE8B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0370E-107D-4DE5-B69C-47C9B2D8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D860E-DE0F-4BAD-A177-BEDA8CA0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B676C-0AC8-46DB-B3F3-5C69AB61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E2CC-258A-4DB2-953E-1826946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892A4-7EAA-4C37-895F-6CE99ED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5199C-E926-4D1C-A51B-30104AA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8D3FD-7451-4875-897F-4BC9A18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859F1-3848-4729-801A-5A1255A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45A8E-5DB9-460B-AE3A-C35B01C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FF97A-096A-49D9-B06C-B014A80B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A3149-97AA-4C12-9837-6E188B7B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3257E-1ACC-4475-91CF-BDC42B07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2CB88-6E79-43ED-9701-4F562C78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D92B7-8F0D-495C-9351-27F46556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A22-2A96-4D39-AD6C-04393E0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A3D3E-73CB-4BBF-9E9A-2B3AC26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5A92C-D08E-411E-B855-9BEDD31B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A2495-A56A-4344-8CF4-D4A8C981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FABD2C-133C-4FA2-85DA-040779B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4ACB6-F48D-4A34-AD00-2DAD5B8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5A38B-111B-4E8F-A6A8-DFA38EB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7370A-4590-482A-A250-254325E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623D4-8103-4923-94FE-327ECECD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5852B-5522-4CDD-A59A-426E7E53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EA071-D99F-4371-A4F4-C863EC55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10F-B224-4B71-8C4D-9FC85EB2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DBB48-7F97-4BBB-BC77-68DFBC0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C147F-80E3-499E-92A1-53715B8D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CF313-BC43-4492-9F56-8A2B360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BEE342-8289-43D0-8E69-5A70471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5324A9-7FF2-4F9B-A93D-A8E82A4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FD715-A734-4AFD-B6D5-22A7F3B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C0267-9242-42A2-BD10-2CB0D98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D2C41-9D9A-4AAC-B696-D18126C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C045C-D003-45AF-8DB8-E824BEA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98751-A5FE-40A2-AEBC-8EE95CBF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3B4-26F3-4DEF-95DB-F51975D0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2EDCD-51BA-432B-89B6-50824D37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0432F-B850-4258-817C-D01DF32B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66498-222C-49C1-9EF9-682D9133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EA1E1-E7DB-46A8-A800-AF73E399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CB7622-D856-47F1-A477-64ACD530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4F41D-4C65-49EC-AF91-4C20785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418CA-D17E-41B1-A41C-6F3E4FB3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B0030-D0A9-498E-8B0A-4DFF2B5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CE61E4-F2F6-4732-A43B-391476D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28A78-4880-4B01-A539-8E71BF7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BC2A-1E9D-466F-9B5F-C093C236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D3CDC5-252A-447B-BBAA-8F79AA1B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E113B-8856-4898-B3C3-AC2D5316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CF7E18-36A9-4ED8-B348-031A29B1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B92942-A406-42D9-85BA-31CA6060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4008B-38F6-4B3E-A124-4E674795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19C48-6843-4D28-9AE8-3F1554C6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D582C-4509-4686-BBDA-73B922B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7BB29-C372-4C0C-8676-8F63C6B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F02A2-BEBE-4DDC-BBBD-9A2A7BC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657AE7-AC40-4CA4-A10F-E177101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254A-94B3-4E96-A559-2A2405F0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794E16-CCAA-40FB-AA0F-73B5A4F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A8DFA-81E4-47A7-B724-ABD700B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F773D-F30C-4B9E-90E9-EABF3F5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B26A4-30C0-45CD-90E4-13AC202C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94BFF-EE68-453B-91C0-31379E21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78646F-1120-4E55-BA11-FE6D7035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188B90-1394-438C-B840-9789B65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06DAEC-421F-46CF-9A85-70B129BE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E2F015-C90A-4E8E-A6C4-A9CFF5D0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7D9F71-7D14-489E-AE73-6AB9606F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8028-16C3-4BF9-9A90-CA2A3E8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C1498-50C8-4E60-895D-2B67B80F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044D0-B9F3-4EAF-9BD7-713D3B1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5D21F-2FAF-4E59-8536-7E8D285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D9DD42-AB8B-4CB6-B5F6-295152A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92DEA3-8C44-400E-B477-07862AA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7AE840-2F92-46E5-94CD-4AEABD9A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94A682-8C44-4B72-B460-59437DEE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5510-4BF5-465C-852F-9E76324E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9564-108D-4591-9957-FA6B7D1B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828-6ED5-4ABD-9020-B238A9DF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DCF1-258E-4C8B-A812-D17B2533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D0C8-C117-482A-8F96-31B10C8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6131-B7C5-4078-AB3C-F3ECAC7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E2BF-7C60-471A-AA35-3EBFF23D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4F00-C95F-432C-B27C-21C9002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F2D1-1EA5-4277-9AC0-824EC474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47A7-F170-486B-8547-B7FBBC12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48A7-87F5-4592-8061-D15AF910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FE7B-181C-4832-A055-BF6A1909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86FE-0C8B-460A-9F6B-FBB2BBD0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31F-B7B9-4A11-964A-7785755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33EF-108B-45CE-B4EE-D8DA547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6F16-11C7-4209-B902-1620734B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1827-EF4F-4F6C-A6BC-447D3D3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A6FC-3729-4AAE-A5B4-AF290AE7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7921F-BEF0-4758-A69E-D39A0B0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6944-AD4E-4F71-8B50-C591F3D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FD32-191E-4E69-8955-10B9E79C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CEAB-3B20-4C18-8227-FBA5DD72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1584-D292-4D43-9A1C-2C36D44C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D67D-582D-4723-84A3-6090D046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896-321C-4B0C-8046-4C73F48A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CA1E-490F-449A-8DEE-CA9DBBF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07EF-EAF0-4D6E-B99C-70786DB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721C-E191-4CFB-A060-80190433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656B-E4E8-4493-8DCE-65E18CBC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A6EF-26D2-426C-BB7A-E902EC59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4291-5F79-41CC-8122-76F55CE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8468-C616-4B3C-80EA-AE9BDAE5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C7623-4158-4B65-BA77-CEE750F9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172F-3765-45F9-8F92-024D9C89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767AC-BA3B-490D-9743-7D5A810D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42B-CAC4-476A-89A5-54EB343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1830-B8F7-4447-B933-076ED67C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AEF9-1163-43D1-8F10-B7D4529E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4B75-D2BA-41F1-8161-EA39FA11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D5D1-7EB8-40EE-9F77-4AA67EB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8914E-126F-49E3-BF53-D54351EB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B23D-BDE9-403C-9E61-04BA79D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6C18E-48B0-4FFD-ACD8-07D2B33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A8EB-2733-42DD-B9EF-CC9878A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3DAC4-0FF3-4E1F-8B09-237F6CCC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CDAC-95DB-4CCB-9544-431D32B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E29-3E50-41AD-AEA9-35FB149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584E5-7145-4D58-BD43-6081C1C9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B5BE-A0C0-47DE-AC4D-667E5284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A135-09EA-43F9-8D03-B39D873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BEC6-644F-42A2-9B2F-29271181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E6D73-7AEA-4D5A-AFE3-FDC0F18F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FECE4-4C29-4F07-8622-04EB274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6EBB-DCAA-40D0-93D9-C050CCEA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DDFE-942A-4498-B7A7-E640E65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A82C-E33F-48CD-A781-C3B5B86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A3C68-C738-494A-AF9E-472841B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F57-4D2E-4ADF-973E-222AA77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331A-611D-4AC0-B58D-62103C5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0729D-604A-4BDD-AEE2-6030376B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698C5-4BB4-4EA3-956C-3D0E7D2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D194F-BBEE-4B5D-9E57-0ABD48E6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5DE36-CCCE-492F-92D5-CA69852F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EEE24-222E-4A3C-8023-CA5F1E21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112E-C30E-40FA-B2C2-8029FB2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4916-0F04-45C5-970F-6FE4B230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6BB0F-EEB9-4C3F-9116-5B09075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9707-83B0-48E8-8360-FF89038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D65-E4BE-402C-99F3-F43828F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2FACC-E29E-494F-B061-352527C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FCA8-19BF-421D-8406-560918FE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261F-DA6C-462A-9E64-3690EBD7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177C-8998-4A02-803E-AC6C404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8E1B7-2D5A-4E26-9D18-895725B8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EA37-B29B-4210-8F21-A828834D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2D6F-BE6F-4831-AC53-A74B693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77B59-FB8C-4C9B-AFE5-B3BFB3AF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E16C-5274-46C2-92BB-46CB082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88B5-E4C1-46A5-B648-8D5C727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609-2C98-44C5-A047-C52A04870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129-065B-4BFF-8122-0826444E7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DE2-FB6B-47B4-9C4E-D01B24CA2A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FA7-0E95-411C-8CD3-FD79C0A04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7684-7E5B-496E-97EA-7172B8502A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31C-9461-4F72-B3C5-8A28DED69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8C72-F2B4-41C4-9788-14F87F8922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076C-8BC7-4408-A887-9FEEB97CD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46F-6F4F-406B-8849-D3A2F660B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60A-BBD3-447F-9775-C4766DB77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66CF-9F5F-4AE8-B5D3-5CD5C95D8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F8F0-FA0E-415D-B1F7-11143F2FC2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6E6-B9C0-402F-9302-0F5E71F1E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133-E970-41C9-B001-5ED7BC742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5A1-FDC1-4A74-9070-DE8D8E382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F71B-9426-4E12-840A-0D0D01594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5E8-81D6-490D-8AEC-ACBAAE15A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788-0909-40AF-AB50-173146501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3F65-AF01-4B81-AE6A-878A13C02E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D7A-CE03-43B9-ADA2-6B809E64A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69C-C92B-48C1-A920-D459F6F31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799B-43A3-4682-92F0-584A4E1145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5C35-EFBF-405A-81E3-ACB2CF27C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A94F-3A74-41C5-B6BD-F58D32050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6E1-234B-4112-93AF-0C6E6C870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55A9-CFCE-4917-B714-2CC74724D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1F74-DE02-4B8F-9131-4C7C481EC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7184-6094-4DE4-94E2-5EAB46D8C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3BDA-41FE-442D-9ED2-B6D2F38A7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8F28-2584-49C9-A9A0-912DF96A1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5EA-B672-48AF-8F33-A26E9F09D1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55B-0134-4331-BD70-BE2672B3C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4CFB-B9C0-4F08-96DA-F1BEBCE2D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FEB4-77BD-4BAF-8991-EB36667F38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17E-5B39-49D3-BBB3-1D41D0A50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517-BFC1-4AF4-9780-3EB08C9CF3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4799-1296-453D-A49F-3E1C039D3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4053-2302-4C9D-B2FE-0C3602564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4A36-3A2C-4F4D-B3EC-5FD97BBAD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4BCE-D258-44A4-804B-35BA2511E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86B-87AE-4B64-90FB-1BB0FC6FED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09D-CA7A-46D3-BCDA-EEDD5B293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5920" y="2952720"/>
            <a:ext cx="86007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038240"/>
            <a:ext cx="87436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76360" y="971640"/>
            <a:ext cx="7991280" cy="54766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730872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580000" y="1498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536400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730872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7596360" y="28814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1619280" y="52862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1619280" y="5791320"/>
            <a:ext cx="5763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19240" y="673200"/>
            <a:ext cx="8705520" cy="60577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332000" y="609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8197" descr=""/>
          <p:cNvPicPr/>
          <p:nvPr/>
        </p:nvPicPr>
        <p:blipFill>
          <a:blip r:embed="rId5"/>
          <a:stretch/>
        </p:blipFill>
        <p:spPr>
          <a:xfrm>
            <a:off x="1547640" y="230040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15200" cy="4972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547640" y="3557520"/>
            <a:ext cx="640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64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64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1080" y="895320"/>
            <a:ext cx="8781840" cy="5067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268800"/>
            <a:ext cx="4249800" cy="1168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55640" y="4595760"/>
            <a:ext cx="424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06200" y="819000"/>
            <a:ext cx="8772840" cy="5905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68360" y="593568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581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90680" y="1400040"/>
            <a:ext cx="8162640" cy="405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468360" y="280980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539640" y="4221000"/>
            <a:ext cx="7920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8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